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C305-018E-4AC5-9C58-5C04EE29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D54C-FB60-4C40-B089-7297523D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23B37C-B544-4649-90D3-218F6416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9F6902-A0BF-42C3-AD24-16C2CD96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E3B323-3E60-4579-AB9F-4934F4FB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6979CC-537F-4CC5-AC35-8BA96414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CFB456-A3BD-4C0C-8968-EF4A2A67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BAF799-6AF3-4D2E-959D-9F05ECAA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FA6C0C-5C0F-48CD-8B20-4E80D79E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8E9E96-6AD9-4CAA-8E83-BBD5F385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D5C50E-4A57-4744-8A5B-EA4E6C18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DB113E-BCDC-4005-B0A0-7A3B83BC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5C2B-DBFB-4622-854A-1F49F8BF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65B720-D3D0-4B4C-A538-3ADA1FAA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B8086E-A31A-419E-9EC0-EC56F36B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190056-510C-4F1B-99B5-8BA69938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DE55A4-2B22-41B7-8129-1B8FEFF5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D9872A-590A-477D-B78C-C33C2FE7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26DAD3-0463-4395-BB12-A17AB2CA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D7D1CE-CF5D-45C0-A33C-4655D104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4AA8CE-B4FC-4C09-9A24-1B88F468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54C131-8B9B-4674-874F-0E35F848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3B1A57-553A-468F-8056-6A291D1D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7995-FEF9-4B43-896F-3C9F1421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EB533A-AE0E-43F0-8B89-CD9E04AC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06470-3368-4955-9704-EB23E320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17CF5-9AF0-442B-8979-8FF1D483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1199F-8445-4BF6-8711-17318053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CE016-ACBC-4A70-97EF-CBE5421E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0AADE-4484-48CB-B129-D14FC822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3D1A7-96E5-40BA-B06C-C62597E5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2A8D6-4A79-4876-98E7-1D8D290A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4F063-6815-4CEF-AD4D-4AB8485D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AF186-2772-4B5B-8B91-84D4B13B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0EE7-5D64-4AB7-B8DD-0E287074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71F55-6821-46FA-9ECD-E00454EA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8832C-EAAB-49C6-9941-F67C6C15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8ADE4-6964-4E32-A16A-D4C0804E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84A9C0-5D1E-4985-B3F4-67989913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1D92B6-5377-4060-B24E-6AD42B2A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72E696-A8CC-4875-8773-CC1EE6DD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A85141-B331-42B8-99F4-AB098D17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70053E-3AB3-41B8-8584-7B36062A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E9D945-5693-4C96-A8D4-BF6522F2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F8129E-07DE-41F8-809A-0DC28C03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2DAB-6CCA-4380-BF67-B11BF63C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F29AF9-352A-4B34-9BD1-50BE39B0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2AF82F-F8CE-4EF8-B49C-177F2F5F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F988EA-64FA-425A-AA0D-24FF01A4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C29CB6-E248-4C3B-B86C-34E1DDED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717721-8B9B-4D7E-A1EF-D9306A7C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2983-86D1-4EAD-8C6F-E984FE84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0520-6B31-4DBF-B5FC-88E5011F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88FE-5E85-4BF4-ACCD-8C1FB3D7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0D2E-77C8-426E-83D7-1D828A4F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0FFB-B98F-4561-94E2-C05D8AE7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E2A2-A2C0-4C88-99F8-5618098B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8AA3-7CA6-4299-9509-B685CC38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F813-5C01-41FB-8747-9565636B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DC1F-BFDE-4EDC-A2CF-99388232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8B54-674A-4D74-A582-773106BB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71AF-F057-4F19-BE64-807F6836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C3D5B-AED3-487A-AF83-39D3E8F8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68511-A67C-4B12-AB8B-88753F9C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68EA3-546D-43DA-A549-B67B3DBE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B107C-92D9-4BE5-8EB3-0E857B67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DF7BE-576D-42CF-ABF8-BB3D7301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65AD-026B-4A4A-A95E-883A7AC9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1F8B0-BA95-4941-9F2E-6A584AE7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3CC82-2AE3-4651-87DF-F8E460F0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BD0E6-EB67-4E94-B425-E8E007E6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6D7DC-5D9E-48EF-8ED3-7EB03EA4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38B30-2CF6-4B67-BE5B-EAB55857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F63E4-AEDD-4C59-BF93-AE612E7D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E70E8-577D-463A-8171-588D2C7EC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CB1FF-CDF3-4F57-88FB-36C7F94D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2C436-2E8E-424B-A058-37AAA865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626BC-8C46-4AE7-A329-803AADCE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BBB3-4276-4A1D-ABB6-7CBBCF34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B5A32-3090-4304-BE0E-9C3CF7CC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B943E-28CE-43DA-B4E4-8CAFC3B0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1EE28-E905-4CC4-B31A-4F0F01AD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C52DD-55E9-45B9-8954-65C5EDE4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30405-0D19-411C-B93D-F4E33009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B9926-F0DF-45EF-9BFD-9C61F545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D9112-9D9C-4700-B84D-ECD94A66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099BF-FB2A-4EC1-9EB7-F736298B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70931-8173-4D75-8CF1-84E38CB7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7D5B1-7A62-4BD8-8FCC-8CD3D8E6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89A9-69EE-486E-97AD-16FF26A2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7592D-7AC9-4420-B518-5F29977C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5D761-D165-4E63-B346-C04D5DA9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FF087-B136-413A-8341-0C13ACFB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D8AF9-7612-4864-A781-4CF9F7EE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4920E-62D7-4951-B6F1-3D309603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B1882-C38C-4310-A9A5-81EDC911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B60DE-307F-4DED-B65D-074107CA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8EF1B-3F85-410B-975A-D6166BD2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038A6-CC1B-46A1-88D1-725156F8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888DC-3CA2-4B09-9D15-48DDF099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8C56-62C4-4D81-9CE4-4625E590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E7788-DE93-49F2-BE0A-AFC54A4E5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360B8-6B70-4DAA-A8AD-348B509C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2FC69-5BF0-4003-B816-D191D6D3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FB2B3-D69C-407C-BEF3-0C7F089E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0D4D8-266A-4D01-AB97-AB95DD1B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B9C8E-2302-47D5-A567-2059E809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996B0-B22B-4797-A571-0771432A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DA9D1-1C04-437B-AA3C-00CC0F74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8A861-4F15-45CD-BD6C-F094BE5D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D84A8-8C7A-413B-9277-60F5AB8D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1171-ADF4-4210-A149-224E9A3E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87A9B-22ED-4FDF-8D00-3B0E1E4D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E7B93-C872-48F1-84A5-52208FE0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AC853-FEF7-4E91-97F4-AF47C722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842DD-8444-4BE3-B1FB-E36CF054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F65E1-9AFE-4531-A94D-C1C4E222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1C0ED-225E-4EED-8A27-32B75D7B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EAB16-19BD-4A33-A794-995AD00F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5D7BC-880B-46EE-BE4A-75545D37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0B8A9-1A8D-4150-B08E-D11B450B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838EB-45A3-4B83-B8C6-D177D3FC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7A36-E4A6-4018-8567-65425461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DFD6E-0D02-4039-875E-43E18926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85620-FB81-4E68-9CEA-63A42BCA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85DA3-8D99-4258-BB9B-D621E173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FF388-7FB7-4FB1-82C1-D7217C60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115C8-423F-40BD-B14B-08001EA9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F80FB-8E32-4899-8837-21886500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B3BE4-13B6-4CAF-9D9C-34B1C482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F6C51-1DD7-46A6-8FD5-95F4CAAA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A35EF-526A-45AC-A525-669ED56D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47B46-FA73-495D-969E-61F395C3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5617-0F38-4658-91AD-2391B8EC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5BC9B-ABC8-4938-84C6-5EEBDB35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AABA2-6C57-4642-9EE5-4DB4308F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BC7B1-DE44-4D49-8DCF-A23048C9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1AAAC-8B32-470B-9269-26E63964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CF053-83CD-4989-BB13-EB9572E6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2A3F0-B3CF-4D3D-82CA-E8E31B92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20775-97D2-490F-B0D1-357793D04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ED416B-DEA7-4E0F-908C-A75C190D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1DAE62-ABA6-4D4C-85E6-16F5B29C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81CDA3-D599-47E5-BF35-4B0E1C8C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74BA-8433-4C79-AA46-E4916D3B386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FB80-E83D-4AD0-ADA9-7ACFD8F78FC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E2B1-9DFF-44C5-883C-F5DDDBC812D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4478-C676-4F5B-8CAC-6D23E220D7D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A387-2BBF-48CF-A477-E5C0262F715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FEE5-5363-4201-8805-21DA7441F5F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15A0-158B-4F99-AF64-ACD215785E0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13AF-BCB6-442C-AF72-52E6AA54652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1057-0ABB-4C6F-A377-7F378E2030F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81D1-A014-4B33-A39E-6F63E10CE5D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F055-DBD5-4C78-AB0A-1ED0DE71C509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F1F4-9E32-409D-B226-DBA283CC6E8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CCESS INFORMATION FROM A  VARIETY OF PRIMARY AND SECONDARY SOURCES TO GATHER INFORMATION FOR RESEARCH TOPICS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rimary and Secondary Source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Picture 2" descr="C:\Documents and Settings\maxweel\Local Settings\Temporary Internet Files\Content.IE5\OP2NO5QV\MPj04307290000[1].jpg"/>
          <p:cNvPicPr/>
          <p:nvPr/>
        </p:nvPicPr>
        <p:blipFill>
          <a:blip r:embed="rId1"/>
          <a:stretch/>
        </p:blipFill>
        <p:spPr>
          <a:xfrm>
            <a:off x="5867280" y="3733920"/>
            <a:ext cx="2590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imary or Secondary Sourc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3" name="Picture 2" descr="http://www.iafflocal469.org/pics/History%20Book%20web.jpg"/>
          <p:cNvPicPr/>
          <p:nvPr/>
        </p:nvPicPr>
        <p:blipFill>
          <a:blip r:embed="rId1"/>
          <a:stretch/>
        </p:blipFill>
        <p:spPr>
          <a:xfrm>
            <a:off x="2362320" y="1523880"/>
            <a:ext cx="44956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imary or Secondary Sourc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5" name="Picture 2" descr="http://www2.scholastic.com/content/media/products/49/0516264249_xlg.jpg"/>
          <p:cNvPicPr/>
          <p:nvPr/>
        </p:nvPicPr>
        <p:blipFill>
          <a:blip r:embed="rId1"/>
          <a:srcRect l="8200" t="0" r="8200" b="0"/>
          <a:stretch/>
        </p:blipFill>
        <p:spPr>
          <a:xfrm>
            <a:off x="2743200" y="1523880"/>
            <a:ext cx="388620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are Primary Sources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3716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imary sources are actual records that have survived from the past, such as letters, photographs, articles of clothing” (Library of Congress 2002)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525600" indent="-26172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Resource is factual, not interpretive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25600" indent="-26172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Reports of scientific discoveries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25600" indent="-26172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Oral history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25600" indent="-26172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Social and political science research results 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25600" indent="-26172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Diaries &amp; journals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25600" indent="-26172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Newspapers-can be primary or secondary sources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2" marL="1097280" indent="-219240"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A newspaper article on slavery written in 1860 would be a primary source document.  An article written today on slavery would be a secondary source document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525600" indent="-26172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Photographs, maps, and postcards-maps are primary sources because they are created in a particular cultural context.  Mapmakers may have hidden agendas or influenced by social and political factors.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25600" indent="-26172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Recorded or transcribed speeches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25600" indent="-26172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Realia/Artifacts-Jewelry, Cards and Board Games, Needlework, Leathergoods, clothes, textiles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25600" indent="-26172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econdary Sourc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ary sources are accounts of the past created by people writing about events sometime after they happened” (LOC 2002)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condary Sources interpret and analyze primary sour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cond-hand account of an historical even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nalysis and interpretation of research result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Biographi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Newspapers can be primary and secondary sour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istory book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views for book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1" descr="p 141.tif"/>
          <p:cNvPicPr/>
          <p:nvPr/>
        </p:nvPicPr>
        <p:blipFill>
          <a:blip r:embed="rId1"/>
          <a:srcRect l="3134" t="27778" r="15393" b="27706"/>
          <a:stretch/>
        </p:blipFill>
        <p:spPr>
          <a:xfrm>
            <a:off x="1371600" y="609480"/>
            <a:ext cx="662940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1" descr="p 146.tif"/>
          <p:cNvPicPr/>
          <p:nvPr/>
        </p:nvPicPr>
        <p:blipFill>
          <a:blip r:embed="rId1"/>
          <a:srcRect l="16836" t="11113" r="3858" b="49209"/>
          <a:stretch/>
        </p:blipFill>
        <p:spPr>
          <a:xfrm>
            <a:off x="1600200" y="762120"/>
            <a:ext cx="60958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p 144.tif"/>
          <p:cNvPicPr/>
          <p:nvPr/>
        </p:nvPicPr>
        <p:blipFill>
          <a:blip r:embed="rId1"/>
          <a:srcRect l="20802" t="44446" r="9385" b="16667"/>
          <a:stretch/>
        </p:blipFill>
        <p:spPr>
          <a:xfrm>
            <a:off x="1752480" y="762120"/>
            <a:ext cx="579132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IS IT A PRIMARY OR SECONDARY SOURCE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eorgia"/>
              </a:rPr>
              <a:t>What have you touched since you left school last night?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imary or Secondary Sourc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9" name="Picture 2" descr="http://www.topicsites.com/abraham-lincoln/Abraham-Lincoln-bw13.jpg"/>
          <p:cNvPicPr/>
          <p:nvPr/>
        </p:nvPicPr>
        <p:blipFill>
          <a:blip r:embed="rId1"/>
          <a:stretch/>
        </p:blipFill>
        <p:spPr>
          <a:xfrm>
            <a:off x="3048120" y="1600200"/>
            <a:ext cx="312408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imary or Secondary Sourc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1" name="Picture 2" descr="http://www.tpet.com/img/productImages/Anne-Frank-Book.jpg"/>
          <p:cNvPicPr/>
          <p:nvPr/>
        </p:nvPicPr>
        <p:blipFill>
          <a:blip r:embed="rId1"/>
          <a:stretch/>
        </p:blipFill>
        <p:spPr>
          <a:xfrm>
            <a:off x="3048120" y="1600200"/>
            <a:ext cx="31240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14:52:53Z</dcterms:created>
  <dc:creator>maxweel</dc:creator>
  <dc:description/>
  <dc:language>en-US</dc:language>
  <cp:lastModifiedBy>Home</cp:lastModifiedBy>
  <dcterms:modified xsi:type="dcterms:W3CDTF">2009-11-17T11:32:06Z</dcterms:modified>
  <cp:revision>38</cp:revision>
  <dc:subject/>
  <dc:title>Standard 5.1b</dc:title>
</cp:coreProperties>
</file>